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530-09B8-483B-BDCA-81C48143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225-3839-4B27-8912-021630CE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CE2-FBE4-4D66-AC80-60D7F2D8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35E-3C76-4F6A-8F44-19E8ADE7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653E-7F7B-4347-B5B8-5E7B14F0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FE6A-ABBE-4E19-AE2D-C87A8230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338C-48C8-4010-A164-704E183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F4AF-1B69-4F4C-A98B-4283A7D0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C6A4-866D-45A6-8F61-584D18D2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AAE7-511C-4494-BF03-71DED40A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28F5-7EE2-4575-93AD-98BAA567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89B-1746-45DF-BDA7-5C452C49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1977-9C58-4D7A-952C-59DB2B91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50DE-386C-4B99-9B8E-FF40B922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37FD-FA32-40DA-B47E-A5595F33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28E2-F991-47A4-AA6F-6D4EA420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72E2-4C7B-4351-A1B1-C0D4C2E1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D16F2-229B-4870-AFB1-66C7B810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7403-7CED-4AC6-A7F5-F588F587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1673-5A97-41B3-8423-E3855EBA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63F0-5116-473F-B472-7E85F8A3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3FCA-0D72-4197-9406-280908EF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D51-320D-419D-AFAF-05644314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97D2-1DB8-4007-B7C0-7CAEAC3C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3D2B-DA52-46C3-BCB8-51ABEAED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71F5-B62D-4690-BF42-9EE127B3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40564-1F35-4407-8EB8-8EE19E57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A13E-9C6C-4009-93F6-44F27857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82F8-D499-4037-8A5C-66DF9BA6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9F88D-964D-463E-A8E4-F4DBB8D0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D2E-5DBE-49A2-BD96-665075C2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CFF-C980-44FF-BEF9-3FFAF7BC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B42-CB44-4485-8B31-825B38B4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B0F-686D-4F74-B564-37F70FD2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9EE-0083-4333-A425-5334A47C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07D-9647-4916-A877-9C7F31DE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A766-E1F6-46E5-AB7B-7E334C706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B303-2DFE-41DC-A3CB-89DDB3EBA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C342-64FF-44AF-9257-F16F64D4E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ff"/>
                </a:solidFill>
                <a:latin typeface="Arial"/>
              </a:rPr>
              <a:t>Programming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r-Latn-CS" sz="3200" spc="-1" strike="noStrike">
                <a:solidFill>
                  <a:srgbClr val="ffffff"/>
                </a:solidFill>
                <a:latin typeface="Arial"/>
              </a:rPr>
              <a:t>oftwar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vides tools that assist a programmer in writing computer programs and software using different programming languages in a convenient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he tools include text editors, compilers, interpreters, linkers, debuggers, and so on.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bs01181_"/>
          <p:cNvPicPr/>
          <p:nvPr/>
        </p:nvPicPr>
        <p:blipFill>
          <a:blip r:embed="rId1"/>
          <a:stretch/>
        </p:blipFill>
        <p:spPr>
          <a:xfrm>
            <a:off x="7067520" y="4697280"/>
            <a:ext cx="20764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ff"/>
                </a:solidFill>
                <a:latin typeface="Arial"/>
              </a:rPr>
              <a:t>Programming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r-Latn-CS" sz="3600" spc="-1" strike="noStrike">
                <a:solidFill>
                  <a:srgbClr val="ffffff"/>
                </a:solidFill>
                <a:latin typeface="Arial"/>
              </a:rPr>
              <a:t>of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llows end users to accomplish one or more specific (non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mputer related) task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 process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erical analysis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ing of d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ing and graphic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 process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k top publish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desig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ff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ypical applications incl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dustrial autom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oftwa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ducational softwa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dical softwa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tabas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mputer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usinesses are probably the biggest users of application softw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st application software for business comes in an integrated package such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soft Offi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tus Smart-Su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ra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soft Office is the most popular package used in business, it contains the applic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c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s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wer-Poi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ont-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OfficeXP"/>
          <p:cNvPicPr/>
          <p:nvPr/>
        </p:nvPicPr>
        <p:blipFill>
          <a:blip r:embed="rId1"/>
          <a:stretch/>
        </p:blipFill>
        <p:spPr>
          <a:xfrm>
            <a:off x="380880" y="990720"/>
            <a:ext cx="3200400" cy="3352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integratedsoftware"/>
          <p:cNvPicPr/>
          <p:nvPr/>
        </p:nvPicPr>
        <p:blipFill>
          <a:blip r:embed="rId2"/>
          <a:stretch/>
        </p:blipFill>
        <p:spPr>
          <a:xfrm>
            <a:off x="1600200" y="4672080"/>
            <a:ext cx="2871720" cy="2185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ORELdraw"/>
          <p:cNvPicPr/>
          <p:nvPr/>
        </p:nvPicPr>
        <p:blipFill>
          <a:blip r:embed="rId3"/>
          <a:stretch/>
        </p:blipFill>
        <p:spPr>
          <a:xfrm>
            <a:off x="3657600" y="1066680"/>
            <a:ext cx="2227320" cy="2895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Lotussmrtstem"/>
          <p:cNvPicPr/>
          <p:nvPr/>
        </p:nvPicPr>
        <p:blipFill>
          <a:blip r:embed="rId4"/>
          <a:stretch/>
        </p:blipFill>
        <p:spPr>
          <a:xfrm>
            <a:off x="6172200" y="2971800"/>
            <a:ext cx="28256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omputer software is loaded into a computer's storage (such as a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hard drive, a memory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RA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omputer is able to execute the software in the Central Processing Unit (CP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his involves passing instructions from the application software, through the system software, to the hardw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ach instruction causes the computer to carry out an ope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lmost the only limitation on the use of computer software in applications at the moment is the ingenuity of its designers or program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he only area that has so far proved reasonably secure from software simulation is the realm of human art - especially music and lit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hension question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mputer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ajor classes of the computer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P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n example how computer software ope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32068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дна недељ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ц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и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ђење у основе стручног енглеског језика из области информационих систе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ј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рачунарског софтвер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рачунарског софтвер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 и дискус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onsists of programs and enables a computer to perform specific tas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ftware is an arranged sequence of instructions designed to change the state of the computer hardware in a particular 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t is usually written in a high-level programming language. High-level languages are compiled or interpreted into machine language object c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mputer Softw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ftware systems can be divided i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yste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ftw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erating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rogram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plic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ftw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grams we 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bd07030_"/>
          <p:cNvPicPr/>
          <p:nvPr/>
        </p:nvPicPr>
        <p:blipFill>
          <a:blip r:embed="rId1"/>
          <a:stretch/>
        </p:blipFill>
        <p:spPr>
          <a:xfrm>
            <a:off x="6248520" y="4191120"/>
            <a:ext cx="242568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ff"/>
                </a:solidFill>
                <a:latin typeface="Arial"/>
              </a:rPr>
              <a:t>System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r-Latn-CS" sz="3200" spc="-1" strike="noStrike">
                <a:solidFill>
                  <a:srgbClr val="ffffff"/>
                </a:solidFill>
                <a:latin typeface="Arial"/>
              </a:rPr>
              <a:t>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ystems software is the control software that operates the hardware and allows the applications to r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cludes operating systems, device drivers, diagnostic tools, servers, windowing systems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utilities and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s purpose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s to insulate the application programmes as much as possible, especially memory and other hardware featur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Operating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ing Systems run in the background without the users being aware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ontrol the inputs, outputs and storage of files as requested by the applications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XPlogo"/>
          <p:cNvPicPr/>
          <p:nvPr/>
        </p:nvPicPr>
        <p:blipFill>
          <a:blip r:embed="rId1"/>
          <a:stretch/>
        </p:blipFill>
        <p:spPr>
          <a:xfrm>
            <a:off x="6084720" y="4267080"/>
            <a:ext cx="26956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Popular Operating Systems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ndows XP – home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ndows 2000 – business network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c Operating System – GUI,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/2 Warp – commercia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X – general purpose, main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ux – alternative to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S – command drive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Korisnik</cp:lastModifiedBy>
  <dcterms:modified xsi:type="dcterms:W3CDTF">2010-05-07T10:40:02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